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31FD-ED8B-4776-BE02-4D74D3F5D1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4550-A85D-401D-819D-518F70CCDD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временно с началом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1AAC-50E0-4423-8081-781197E0A4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463D-2B3C-4B3C-9AF2-7F1485A55C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 показа фильма включить звуковой значок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4B86-5C76-4C58-A0CB-8D233AC7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EB4-7013-4793-8075-85E16E08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D16-6310-42C1-A4D6-5F9345E1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0EF-E9B3-4F60-A293-1EE95384C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A2D6-E762-4221-9BCE-AD4554A3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9932-9504-48FE-9E95-A098D93B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4AFC-6118-4ABB-9D30-18826879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9254-99CF-4396-B21E-7F4491DCE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B725B-E38C-43CC-B45B-E2DE0FF1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00B7-FAA8-4068-B860-C185B33E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C52A-DB52-4B5B-A67E-0CCA25B2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188-8A00-43C6-A0BC-675CDCBC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44E5-F4CF-4E02-A3B7-3C60DC03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2BF5-DF7D-4342-AEEA-B0D97CFE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17C9-783B-4F98-95A5-A6E88CBF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1A91-675B-47AA-A524-9DE14ED9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AE5B7-2344-499F-ACD5-CA457BE4E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E45C-7651-40AE-BA59-A65F7787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402-97D4-42C0-BF59-7EF31E42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36FF-A435-4513-A8FA-A9309249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829-E4D4-4576-8DCE-0083F741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790-5C86-4FCF-9CB4-D3FB330B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7ED-213C-432F-B809-B1AD2CE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F68B-F0FE-4EA7-98A5-EA86142D8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5BE8-E0E5-4332-949E-1DD5F2D5B2B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7B51-8B28-41AC-9EEF-E6D85E7A364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b2b2b2"/>
                </a:solidFill>
                <a:latin typeface="Arial"/>
              </a:rPr>
              <a:t>МАКСИМУМ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1f138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1280"/>
          <p:cNvPicPr/>
          <p:nvPr/>
        </p:nvPicPr>
        <p:blipFill>
          <a:blip r:embed="rId1"/>
          <a:stretch/>
        </p:blipFill>
        <p:spPr>
          <a:xfrm>
            <a:off x="-1476360" y="-1539720"/>
            <a:ext cx="12192120" cy="9753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180px-Leonow%2C_Alexei"/>
          <p:cNvPicPr/>
          <p:nvPr/>
        </p:nvPicPr>
        <p:blipFill>
          <a:blip r:embed="rId2"/>
          <a:stretch/>
        </p:blipFill>
        <p:spPr>
          <a:xfrm>
            <a:off x="5398920" y="260280"/>
            <a:ext cx="3745080" cy="2735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360" y="0"/>
            <a:ext cx="496152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ервый выход в космос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ыл совершен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ветским космонавто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еоновым Алексе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рхиповичем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8 марта 1965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 борта космического корабля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Восход-2»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2" name="vskh-2.asf" descr=""/>
          <p:cNvPicPr/>
          <p:nvPr/>
        </p:nvPicPr>
        <p:blipFill>
          <a:blip r:embed="rId3"/>
          <a:stretch/>
        </p:blipFill>
        <p:spPr>
          <a:xfrm>
            <a:off x="684360" y="3284640"/>
            <a:ext cx="4535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луноход 4"/>
          <p:cNvPicPr/>
          <p:nvPr/>
        </p:nvPicPr>
        <p:blipFill>
          <a:blip r:embed="rId1"/>
          <a:stretch/>
        </p:blipFill>
        <p:spPr>
          <a:xfrm>
            <a:off x="4427640" y="299736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6"/>
          <p:cNvSpPr/>
          <p:nvPr/>
        </p:nvSpPr>
        <p:spPr>
          <a:xfrm>
            <a:off x="3960" y="260280"/>
            <a:ext cx="56242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ССР отправил на Луну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ва радиоуправляемых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моходных аппарата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Луноход -1» 17 ноября 1970 г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 «Луноход-2» в январе 1973 г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800px-ISS_after_STS-115_in_September_2006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970560" y="1413000"/>
            <a:ext cx="7393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КС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народная орбитальная станция,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ьзуемая как многоцелевая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смическая лаборатория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КОСМОС СЕГОДН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Увеличить изображение"/>
          <p:cNvPicPr/>
          <p:nvPr/>
        </p:nvPicPr>
        <p:blipFill>
          <a:blip r:embed="rId1"/>
          <a:stretch/>
        </p:blipFill>
        <p:spPr>
          <a:xfrm>
            <a:off x="14400" y="7920"/>
            <a:ext cx="91152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7" descr="tma_20_coleman_26"/>
          <p:cNvPicPr/>
          <p:nvPr/>
        </p:nvPicPr>
        <p:blipFill>
          <a:blip r:embed="rId1"/>
          <a:stretch/>
        </p:blipFill>
        <p:spPr>
          <a:xfrm>
            <a:off x="4284720" y="2637000"/>
            <a:ext cx="1584360" cy="23763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tma_20_kondratiev_26"/>
          <p:cNvPicPr/>
          <p:nvPr/>
        </p:nvPicPr>
        <p:blipFill>
          <a:blip r:embed="rId2"/>
          <a:stretch/>
        </p:blipFill>
        <p:spPr>
          <a:xfrm>
            <a:off x="1187280" y="2565360"/>
            <a:ext cx="1632240" cy="244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tma_20_nespoli_26"/>
          <p:cNvPicPr/>
          <p:nvPr/>
        </p:nvPicPr>
        <p:blipFill>
          <a:blip r:embed="rId3"/>
          <a:stretch/>
        </p:blipFill>
        <p:spPr>
          <a:xfrm>
            <a:off x="5865840" y="2637000"/>
            <a:ext cx="1584360" cy="2376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3"/>
          <p:cNvSpPr/>
          <p:nvPr/>
        </p:nvSpPr>
        <p:spPr>
          <a:xfrm>
            <a:off x="685080" y="1700280"/>
            <a:ext cx="695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Командир МКС      Бортинженеры МКС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2559600" y="691560"/>
            <a:ext cx="309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Экипаж МКС-27: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902520" y="5157360"/>
            <a:ext cx="231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митрий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ндратьев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4213440" y="5157360"/>
            <a:ext cx="163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этрин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олман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869440" y="515736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Паоло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Несполи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539640" y="1186560"/>
            <a:ext cx="777744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Запуск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рабля «Союз ТМА-21», который должен стартовать 30 марта с космодрома Байконур, приурочен к 50-летию полета в космос Юрия Гагарина. По этому случаю кораблю даже присвоили «второе имя» — «Гагарин». В состав экипажа входят как российские, так и американские космонавты, причем некоторые из них отправятся в открытый космос впервые. Так, основной экипаж корабля «Союз ТМА-21» представлен командиром Александром Самокутяевым, бортинженером Андреем Борисенко и астронавтом NASA Рональдом Гараном. В составе дублирующего экипажа— командир Антон Шкаплеров, бортинженер Анатолий Иванишин и астронавт NASA Дэниел Бербэнк.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space_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Group 5"/>
          <p:cNvGrpSpPr/>
          <p:nvPr/>
        </p:nvGrpSpPr>
        <p:grpSpPr>
          <a:xfrm>
            <a:off x="248760" y="620640"/>
            <a:ext cx="2934720" cy="4718160"/>
            <a:chOff x="248760" y="620640"/>
            <a:chExt cx="2934720" cy="4718160"/>
          </a:xfrm>
        </p:grpSpPr>
        <p:pic>
          <p:nvPicPr>
            <p:cNvPr id="170" name="Picture 6" descr="пионер"/>
            <p:cNvPicPr/>
            <p:nvPr/>
          </p:nvPicPr>
          <p:blipFill>
            <a:blip r:embed="rId2"/>
            <a:stretch/>
          </p:blipFill>
          <p:spPr>
            <a:xfrm>
              <a:off x="322200" y="620640"/>
              <a:ext cx="2736360" cy="41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7"/>
            <p:cNvSpPr/>
            <p:nvPr/>
          </p:nvSpPr>
          <p:spPr>
            <a:xfrm>
              <a:off x="248760" y="4939920"/>
              <a:ext cx="293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Зонд серии «Пионер»</a:t>
              </a:r>
              <a:endParaRPr b="0" lang="en-US" sz="20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2" name="Group 12"/>
          <p:cNvGrpSpPr/>
          <p:nvPr/>
        </p:nvGrpSpPr>
        <p:grpSpPr>
          <a:xfrm>
            <a:off x="4067280" y="620640"/>
            <a:ext cx="4206600" cy="1800360"/>
            <a:chOff x="4067280" y="620640"/>
            <a:chExt cx="4206600" cy="1800360"/>
          </a:xfrm>
        </p:grpSpPr>
        <p:pic>
          <p:nvPicPr>
            <p:cNvPr id="173" name="Picture 8" descr="Венера"/>
            <p:cNvPicPr/>
            <p:nvPr/>
          </p:nvPicPr>
          <p:blipFill>
            <a:blip r:embed="rId3"/>
            <a:stretch/>
          </p:blipFill>
          <p:spPr>
            <a:xfrm>
              <a:off x="4067280" y="620640"/>
              <a:ext cx="2304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11"/>
            <p:cNvSpPr/>
            <p:nvPr/>
          </p:nvSpPr>
          <p:spPr>
            <a:xfrm>
              <a:off x="6464160" y="1125360"/>
              <a:ext cx="180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1978 г. 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исследования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Венеры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75" name="Group 14"/>
          <p:cNvGrpSpPr/>
          <p:nvPr/>
        </p:nvGrpSpPr>
        <p:grpSpPr>
          <a:xfrm>
            <a:off x="4788000" y="3284640"/>
            <a:ext cx="4352760" cy="2016000"/>
            <a:chOff x="4788000" y="3284640"/>
            <a:chExt cx="4352760" cy="2016000"/>
          </a:xfrm>
        </p:grpSpPr>
        <p:pic>
          <p:nvPicPr>
            <p:cNvPr id="176" name="Picture 9" descr="пионер на фоне юпитера"/>
            <p:cNvPicPr/>
            <p:nvPr/>
          </p:nvPicPr>
          <p:blipFill>
            <a:blip r:embed="rId4"/>
            <a:stretch/>
          </p:blipFill>
          <p:spPr>
            <a:xfrm>
              <a:off x="4788000" y="3284640"/>
              <a:ext cx="2808360" cy="20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Text Box 13"/>
            <p:cNvSpPr/>
            <p:nvPr/>
          </p:nvSpPr>
          <p:spPr>
            <a:xfrm>
              <a:off x="7527600" y="3787920"/>
              <a:ext cx="1613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«Пионер-10»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На фон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Юпитера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78" name="Rectangle 15"/>
          <p:cNvSpPr/>
          <p:nvPr/>
        </p:nvSpPr>
        <p:spPr>
          <a:xfrm>
            <a:off x="0" y="5445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«Венера, Марс – далее везде»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Астрономия"/>
          <p:cNvPicPr/>
          <p:nvPr/>
        </p:nvPicPr>
        <p:blipFill>
          <a:blip r:embed="rId1"/>
          <a:stretch/>
        </p:blipFill>
        <p:spPr>
          <a:xfrm>
            <a:off x="6046920" y="0"/>
            <a:ext cx="3097080" cy="30970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СМОС БУДУЩЕГ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моядерные двигатели, которые позволят сократить полёт на Марс до двух недель (именно столько, кстати, проводят в космосе шаттлы NAS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смические телескопы с 16-метровым зерка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овведения в области информационных технологий, чтобы продолжить изучение не только Солнечной системы и дальнего космоса, но и самой Земл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1478880" y="3017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 </a:t>
            </a:r>
            <a:r>
              <a:rPr b="0" lang="ru-RU" sz="4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работка комплекса проектно-технических вопросов производства ракетного топлива в космическом пространств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звертывание добывающей перерабатывающей и изготавливающей конечный продукт промышленности в космосе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чало обустройства системы комфортабельной  жизни людей в космос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533520" y="609480"/>
            <a:ext cx="8153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Это сегодня. А завтра?… Поселения на Луне, путешествия к Марсу. Научные станции на астероидах, связь с другими цивилизациями… Все это – будущее. Пусть не столь близкое, но реальное. Ведь оно опирается на уже достигнутое. И не будем огорчаться, что не мы с вами станем участниками дальних межпланетных экспедиций. Не будем завидовать людям будущего. Им, конечно, здорово повезет, для них станет привычным то, о чем мы можем только мечтать. Но и нам тоже выпало большое счастье. Счастье первых шагов в космос. И пусть потомки завидуют нашему счастью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А. Гагарин, 20.03.1967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Picture 3" descr="n"/>
          <p:cNvPicPr/>
          <p:nvPr/>
        </p:nvPicPr>
        <p:blipFill>
          <a:blip r:embed="rId1"/>
          <a:stretch/>
        </p:blipFill>
        <p:spPr>
          <a:xfrm>
            <a:off x="5791320" y="4513320"/>
            <a:ext cx="3124080" cy="2344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1199583428_2024moon"/>
          <p:cNvPicPr/>
          <p:nvPr/>
        </p:nvPicPr>
        <p:blipFill>
          <a:blip r:embed="rId2"/>
          <a:stretch/>
        </p:blipFill>
        <p:spPr>
          <a:xfrm>
            <a:off x="2666880" y="4587840"/>
            <a:ext cx="2971800" cy="2270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ad5893-001"/>
          <p:cNvPicPr/>
          <p:nvPr/>
        </p:nvPicPr>
        <p:blipFill>
          <a:blip r:embed="rId3"/>
          <a:stretch/>
        </p:blipFill>
        <p:spPr>
          <a:xfrm>
            <a:off x="228600" y="4495680"/>
            <a:ext cx="2295360" cy="2362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ANd9GcS7oDhOnifrBYB9YAAsIVP0K2lKUGEyXcim4R71jNWj-aTf5trqnQ"/>
          <p:cNvPicPr/>
          <p:nvPr/>
        </p:nvPicPr>
        <p:blipFill>
          <a:blip r:embed="rId1"/>
          <a:srcRect l="5085" t="-2458" r="-7820" b="-12371"/>
          <a:stretch/>
        </p:blipFill>
        <p:spPr>
          <a:xfrm>
            <a:off x="900000" y="0"/>
            <a:ext cx="8101080" cy="47973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4"/>
          <p:cNvSpPr txBox="1"/>
          <p:nvPr/>
        </p:nvSpPr>
        <p:spPr>
          <a:xfrm>
            <a:off x="539640" y="4869000"/>
            <a:ext cx="7489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ОЛЕТИМ МЫ ДО САМОГО СОЛНЦ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774200" cy="568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Космос – не только удел мужественных и смелых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Он для любознательных и терпеливых, смекалистых и твёрдых,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ищущих и верящих в будущее этого пока еще не познанного мира.</a:t>
            </a:r>
            <a:br>
              <a:rPr sz="4400"/>
            </a:b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                      </a:t>
            </a:r>
            <a:r>
              <a:rPr b="1" i="1" lang="ru-RU" sz="4400" spc="-1" strike="noStrike">
                <a:solidFill>
                  <a:srgbClr val="b2b2b2"/>
                </a:solidFill>
                <a:latin typeface="Arial"/>
              </a:rPr>
              <a:t>Ю. А. Гагарин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tsio"/>
          <p:cNvPicPr/>
          <p:nvPr/>
        </p:nvPicPr>
        <p:blipFill>
          <a:blip r:embed="rId1"/>
          <a:stretch/>
        </p:blipFill>
        <p:spPr>
          <a:xfrm>
            <a:off x="6227640" y="765000"/>
            <a:ext cx="2189160" cy="27370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6123600" y="4221000"/>
            <a:ext cx="302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иолковский К. Э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1857 – 1953 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73880" y="141120"/>
            <a:ext cx="50803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03 г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опубликовал труд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Исследование мировых пространств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активными приборами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615240" y="1916280"/>
            <a:ext cx="555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рвые в мире описал основные элементы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активного двигателя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5400" y="2565360"/>
            <a:ext cx="527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 Предложил двигатели на жидком топливе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699920" y="5516640"/>
            <a:ext cx="57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Высказал идею бортовой системы ориентаци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Солнцу или другим небесным светилам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832320" y="4292640"/>
            <a:ext cx="51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анализировать поведение ракеты вне 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тмосферы;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8640" y="3068640"/>
            <a:ext cx="54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л зависимость между весом топлива и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сом конструкции ракеты</a:t>
            </a:r>
            <a:endParaRPr b="0" lang="en-US" sz="18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9839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korolev2"/>
          <p:cNvPicPr/>
          <p:nvPr/>
        </p:nvPicPr>
        <p:blipFill>
          <a:blip r:embed="rId2"/>
          <a:stretch/>
        </p:blipFill>
        <p:spPr>
          <a:xfrm>
            <a:off x="2987640" y="836640"/>
            <a:ext cx="2952720" cy="3673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2904120" y="4869000"/>
            <a:ext cx="307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К о р о л е в С. П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(1907 – 1966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2" name="Group 13"/>
          <p:cNvGrpSpPr/>
          <p:nvPr/>
        </p:nvGrpSpPr>
        <p:grpSpPr>
          <a:xfrm>
            <a:off x="468720" y="189000"/>
            <a:ext cx="1733760" cy="2154240"/>
            <a:chOff x="468720" y="189000"/>
            <a:chExt cx="1733760" cy="2154240"/>
          </a:xfrm>
        </p:grpSpPr>
        <p:pic>
          <p:nvPicPr>
            <p:cNvPr id="123" name="Picture 9" descr="keldysh"/>
            <p:cNvPicPr/>
            <p:nvPr/>
          </p:nvPicPr>
          <p:blipFill>
            <a:blip r:embed="rId3"/>
            <a:stretch/>
          </p:blipFill>
          <p:spPr>
            <a:xfrm>
              <a:off x="732960" y="189000"/>
              <a:ext cx="1333440" cy="170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Text Box 12"/>
            <p:cNvSpPr/>
            <p:nvPr/>
          </p:nvSpPr>
          <p:spPr>
            <a:xfrm>
              <a:off x="468720" y="1974960"/>
              <a:ext cx="1733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Келдыш М. В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grpSp>
        <p:nvGrpSpPr>
          <p:cNvPr id="125" name="Group 15"/>
          <p:cNvGrpSpPr/>
          <p:nvPr/>
        </p:nvGrpSpPr>
        <p:grpSpPr>
          <a:xfrm>
            <a:off x="470880" y="2492280"/>
            <a:ext cx="1939320" cy="1861560"/>
            <a:chOff x="470880" y="2492280"/>
            <a:chExt cx="1939320" cy="1861560"/>
          </a:xfrm>
        </p:grpSpPr>
        <p:pic>
          <p:nvPicPr>
            <p:cNvPr id="126" name="Picture 10" descr="Жуковский"/>
            <p:cNvPicPr/>
            <p:nvPr/>
          </p:nvPicPr>
          <p:blipFill>
            <a:blip r:embed="rId4"/>
            <a:stretch/>
          </p:blipFill>
          <p:spPr>
            <a:xfrm>
              <a:off x="756360" y="2492280"/>
              <a:ext cx="1472400" cy="152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14"/>
            <p:cNvSpPr/>
            <p:nvPr/>
          </p:nvSpPr>
          <p:spPr>
            <a:xfrm>
              <a:off x="470880" y="3985560"/>
              <a:ext cx="193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Жуковский Н. Е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128" name="Text Box 16"/>
          <p:cNvSpPr/>
          <p:nvPr/>
        </p:nvSpPr>
        <p:spPr>
          <a:xfrm>
            <a:off x="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29" name="Group 18"/>
          <p:cNvGrpSpPr/>
          <p:nvPr/>
        </p:nvGrpSpPr>
        <p:grpSpPr>
          <a:xfrm>
            <a:off x="540000" y="4437000"/>
            <a:ext cx="1718640" cy="2063160"/>
            <a:chOff x="540000" y="4437000"/>
            <a:chExt cx="1718640" cy="2063160"/>
          </a:xfrm>
        </p:grpSpPr>
        <p:pic>
          <p:nvPicPr>
            <p:cNvPr id="130" name="Picture 11" descr="мещерский"/>
            <p:cNvPicPr/>
            <p:nvPr/>
          </p:nvPicPr>
          <p:blipFill>
            <a:blip r:embed="rId5"/>
            <a:stretch/>
          </p:blipFill>
          <p:spPr>
            <a:xfrm>
              <a:off x="825480" y="4437000"/>
              <a:ext cx="143316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7"/>
            <p:cNvSpPr/>
            <p:nvPr/>
          </p:nvSpPr>
          <p:spPr>
            <a:xfrm>
              <a:off x="540000" y="6131880"/>
              <a:ext cx="164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Цандер Ф. А.</a:t>
              </a:r>
              <a:endParaRPr b="0" lang="en-US" sz="18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200px-Sputnik_asm"/>
          <p:cNvPicPr/>
          <p:nvPr/>
        </p:nvPicPr>
        <p:blipFill>
          <a:blip r:embed="rId1"/>
          <a:stretch/>
        </p:blipFill>
        <p:spPr>
          <a:xfrm>
            <a:off x="5148360" y="1916280"/>
            <a:ext cx="3635280" cy="2725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8"/>
          <p:cNvSpPr/>
          <p:nvPr/>
        </p:nvSpPr>
        <p:spPr>
          <a:xfrm>
            <a:off x="471240" y="1341360"/>
            <a:ext cx="562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 октября 195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л выведен на околоземную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у Первый в мире ИСЗ.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20920" y="4846680"/>
            <a:ext cx="849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Этот старт открыл космическую эру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истории человечества!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8" descr="small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250px-Ham_the_chimp"/>
          <p:cNvPicPr/>
          <p:nvPr/>
        </p:nvPicPr>
        <p:blipFill>
          <a:blip r:embed="rId2"/>
          <a:stretch/>
        </p:blipFill>
        <p:spPr>
          <a:xfrm>
            <a:off x="468360" y="3645000"/>
            <a:ext cx="2519280" cy="30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Belka_and_Strelka_Russian_Space_Dogs"/>
          <p:cNvPicPr/>
          <p:nvPr/>
        </p:nvPicPr>
        <p:blipFill>
          <a:blip r:embed="rId3"/>
          <a:stretch/>
        </p:blipFill>
        <p:spPr>
          <a:xfrm>
            <a:off x="5580000" y="260280"/>
            <a:ext cx="3564000" cy="2881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-108360" y="212760"/>
            <a:ext cx="58669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19 августа 1960 г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ыл запущен корабль – спутник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ипа «Восток», с собаками Белка и Стрелка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месте с ними 40 мышей, 2 крысы,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личные мухи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стения и микроорганизмы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торые 17 раз облетели вокруг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иземлились. 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3444840" y="4941720"/>
            <a:ext cx="50529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Сэ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– первый шимпанзе – астронавт,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пущенный в космос 31.12.1961 г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 космодрома на мысе Канаверал.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land_005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7"/>
          <p:cNvGrpSpPr/>
          <p:nvPr/>
        </p:nvGrpSpPr>
        <p:grpSpPr>
          <a:xfrm>
            <a:off x="179280" y="476280"/>
            <a:ext cx="4732920" cy="5878080"/>
            <a:chOff x="179280" y="476280"/>
            <a:chExt cx="4732920" cy="5878080"/>
          </a:xfrm>
        </p:grpSpPr>
        <p:pic>
          <p:nvPicPr>
            <p:cNvPr id="142" name="Picture 5" descr="gagarin100"/>
            <p:cNvPicPr/>
            <p:nvPr/>
          </p:nvPicPr>
          <p:blipFill>
            <a:blip r:embed="rId2"/>
            <a:stretch/>
          </p:blipFill>
          <p:spPr>
            <a:xfrm>
              <a:off x="1106280" y="476280"/>
              <a:ext cx="2781360" cy="388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6"/>
            <p:cNvSpPr/>
            <p:nvPr/>
          </p:nvSpPr>
          <p:spPr>
            <a:xfrm>
              <a:off x="179280" y="4370760"/>
              <a:ext cx="473292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Свершение века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800" spc="-1" strike="noStrike">
                  <a:solidFill>
                    <a:srgbClr val="ffffff"/>
                  </a:solidFill>
                  <a:latin typeface="Arial"/>
                </a:rPr>
                <a:t>12 апреля 1961 г.</a:t>
              </a:r>
              <a:endParaRPr b="0" lang="en-US" sz="28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Юрий Алексеевич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Гагарин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–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первый человек в космосе!</a:t>
              </a:r>
              <a:endParaRPr b="0" lang="en-US" sz="2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pic>
        <p:nvPicPr>
          <p:cNvPr id="144" name="Picture 21" descr="kosmos-1204"/>
          <p:cNvPicPr/>
          <p:nvPr/>
        </p:nvPicPr>
        <p:blipFill>
          <a:blip r:embed="rId3"/>
          <a:stretch/>
        </p:blipFill>
        <p:spPr>
          <a:xfrm>
            <a:off x="5315040" y="1557360"/>
            <a:ext cx="382896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6" descr="2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tereshkova"/>
          <p:cNvPicPr/>
          <p:nvPr/>
        </p:nvPicPr>
        <p:blipFill>
          <a:blip r:embed="rId2"/>
          <a:stretch/>
        </p:blipFill>
        <p:spPr>
          <a:xfrm>
            <a:off x="539640" y="260280"/>
            <a:ext cx="3003840" cy="3743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t_9"/>
          <p:cNvPicPr/>
          <p:nvPr/>
        </p:nvPicPr>
        <p:blipFill>
          <a:blip r:embed="rId3"/>
          <a:stretch/>
        </p:blipFill>
        <p:spPr>
          <a:xfrm>
            <a:off x="179280" y="4365720"/>
            <a:ext cx="3672000" cy="22636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9"/>
          <p:cNvSpPr/>
          <p:nvPr/>
        </p:nvSpPr>
        <p:spPr>
          <a:xfrm>
            <a:off x="3878280" y="981000"/>
            <a:ext cx="52657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6 июня 1963 г.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орбиту спутника Земли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веден космический корабль «Восток-6»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первые в мире пилотируемый женщиной –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ажданкой Советского Союза космонавтом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решковой Валентиной Владимировной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09:38:04Z</dcterms:created>
  <dc:creator>student</dc:creator>
  <dc:description/>
  <dc:language>en-US</dc:language>
  <cp:lastModifiedBy>Owner</cp:lastModifiedBy>
  <dcterms:modified xsi:type="dcterms:W3CDTF">2011-07-20T22:24:34Z</dcterms:modified>
  <cp:revision>44</cp:revision>
  <dc:subject/>
  <dc:title>12 АПРЕЛЯ День космонавтики</dc:title>
</cp:coreProperties>
</file>